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3E53-3B94-4EDE-AF81-24C6350A4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5FA0-7F06-49FB-A8D3-6BC80547C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A64B-58AC-4ECB-9627-01EB5E663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A2A1-B96F-4951-A178-02B5295E5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FE13-C5E1-4181-BA8D-949D576EC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1DF4-9B32-4EAB-BB42-2E801137A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0D3B-8B42-4514-A587-909BF6433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F180-0AF9-432C-BB07-FBB8B5629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C8CB-6F0C-434C-8163-B0C2F5AE0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9E8D-AD2C-49BA-847F-ECED25427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4731-7048-4288-AFD2-89F609A82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294A-4A1C-45B6-95CB-34A9E39AB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868D-02A6-4941-822F-F64A03D85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6012-D8D6-4DF0-846B-F01439F66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3C5C-FF7F-4C21-B111-B9EE5313C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1304-8351-4AC8-9E69-88DA7CC26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45FD-8050-4253-8D2E-66922A056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A724-FB56-4783-B6C3-A85448CEF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CCD5-FDC6-4FBB-989F-8BC71437A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A96E-4823-47F9-AC7C-35904EFC3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519E-8F4C-4B5F-B791-D0BD28C8A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E9D1-47D8-4C62-B2D0-64731C8CF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085D1-D007-4818-878F-B35EC6EB7C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D8B2A-20B1-4616-BDAC-B8E46ADD8D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7E079-E10E-4941-B640-AC97D92AF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4D476-24DD-4D2F-BACC-C8FADE990D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FADF-C5C3-4B8B-83D9-6BFE463ABF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EDDE-F606-44AE-99CD-CC182CBA82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C851-2716-4995-85B7-C564387D5F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4E98-21E9-4280-88D4-2C1EA71EC6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5AB6-5227-4BC7-82C1-2D3C43BB40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02D7-1D82-48DD-B8BB-BBAA10E1DE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1E3C-17B5-41AA-8830-8C37A5784E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3C9E8-6880-4D9C-ACAB-0982C149E2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B32C-53C9-4B06-BA39-3159C23C3C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E2E4-2E4E-4074-B7B4-7826874DF2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0541-4617-42F0-BA2F-00E833A00A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1860-4C25-4291-B710-8AECCE0C4E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2682-020B-48FE-8527-2B5D41C612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EEEE5-0DE5-4567-AF2F-D3D4E9FA45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43302-B72C-43B5-9AAA-39B70CEF25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283FC-8AAB-4743-8E98-4B42B690F1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38D11-4E12-4430-9550-437C2A010A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896F3-950F-4E62-8C79-90CA4D82AA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E24F9-DFA7-4730-8FB7-1D297EFF6A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43E77-1DBE-491F-9160-147928A6F5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BC7F-C06E-4F6A-8BAA-866496FD58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B147-E996-429E-AB16-00BDCB6BE8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0DB9-07DE-4F0A-AEC6-4D8878583E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ntrôle Qualité :  </a:t>
            </a:r>
            <a:br>
              <a:rPr sz="3600"/>
            </a:b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Diagnostics molé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4FBD-F1D3-4872-BEE6-A9310BAF9E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B5DA-1E5D-450E-8164-0DB1E1A69B5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ltat négatif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C392-AE66-4835-AA38-6AA87F0849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A67B-8AFC-48EA-8133-EE910502F6B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isques avec la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plupart des RT-PCR sont faîtes « sur place 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imers ne sont pas nécessairement optimisés pour le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contrôles positifs sont « maison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contrôles négatifs sont « maison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prétation des tests a besoin d’être faite prudem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AC70-2ADB-499C-BFB8-83B6F7330D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5EEE-AAF1-42B5-817E-9E8CE155BF4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Vue généra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Prélèvement, transport, et traitemen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ir l’intégrité des acides nucléique à travers tous le process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Contrôle de la contam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un circuit unidirectionnel de la zone de préparation des réactifs (ADN free) à la zone de traitement de l’échantillon, à la zone d’amplification et de détec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Contrôles positif et négat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Référence: CLSI MM3-A (Méthode de diagnostic moléculaire pour les maladies infectieu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95E3-C67C-4029-B1DA-B8D6FFBD6F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CB08-485E-4176-8B3D-B4F3E69E7B5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: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iagnostics molé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F0D9-896A-4F8B-9E6A-C185E76585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FEE5-7181-4517-81B6-6DA93CBD833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CC33-F65D-4CC0-9799-09FE96D82F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30BC-1899-47E0-9CF1-F5A031076943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al Time-PCR (temps réel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Oval 3"/>
          <p:cNvSpPr/>
          <p:nvPr/>
        </p:nvSpPr>
        <p:spPr>
          <a:xfrm>
            <a:off x="152280" y="1600200"/>
            <a:ext cx="14479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E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Cible AN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amplifié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AE9B-9840-4080-A532-13FC96AEFE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E36C-9CA0-45C4-800D-1500890A8631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actions d’amplif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Amplification /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5412600" y="472428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AS d’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E9AA-8194-42D0-8107-C524492AB2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2AAE-AA24-47B3-A858-1A0D76A6E2E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228600" y="1305000"/>
            <a:ext cx="8153280" cy="49528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al Time-PCR (temps rée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36E1-740E-488A-8EBB-FF12DACB3A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9804-C3A8-4683-AF2A-26FF1B55E07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B8C9-00FB-426C-8BD8-2DA5F8EEE2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6279-3E5C-4F19-8352-910113AAFCD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dolmazonv</cp:lastModifiedBy>
  <dcterms:modified xsi:type="dcterms:W3CDTF">2010-04-08T14:42:55Z</dcterms:modified>
  <cp:revision>7</cp:revision>
  <dc:subject/>
  <dc:title>Quality Control:   Molecular Diagnostics</dc:title>
</cp:coreProperties>
</file>